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5E1-3FD6-4CAE-AB4B-C85076CA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2FD-E95E-4D3B-9933-886A558B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287-14EA-4656-94BC-464BDA8E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1AE-1678-420B-8DD7-0DFEB9C7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30B-B14D-4890-81AD-B2C0BC4E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5D5-BB89-47E7-AA3C-6F13DFB0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E87-724B-4D50-97E7-8351D53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E9A-4B7D-47B9-9D46-64BB596B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B67-596E-4514-A72B-F78B58DD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1AD-9067-4F5A-B76E-FE12D1B1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6D5-66A9-4602-8C53-39B9C5C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9F7-8D0A-4B75-B3B6-ABF7204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7DAC-2548-468A-A4ED-1C09103D4B9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B80-32DB-4C0F-B5DD-57EF6939254D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173320"/>
            <a:ext cx="7162920" cy="4684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ohn 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e riseth from supper, and laid aside his garments; and took a towel, and girded himsel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After that he poureth water into a bason, and began to wash the disciples' feet, and to wipe them with the towel wherewith he was gird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8C6-AC7E-41C1-8DBC-6E48E4A6EDD2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3332160"/>
            <a:ext cx="7391520" cy="3525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731B-0A64-4D9A-ACE2-399AE0842F3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76320"/>
            <a:ext cx="90676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Then cometh he to Simon Peter: and Peter saith unto him, Lord, dost thou wash my fe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Jesus answered and said unto him, What I do thou knowest not now; but thou shalt know hereaf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Peter saith unto him, Thou shalt never wash my feet. Jesus answered him, If I wash thee not, thou hast no part with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276720"/>
            <a:ext cx="2514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5CF-F523-4865-A931-EA3796853021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35835" t="48946" r="49168" b="38821"/>
          <a:stretch/>
        </p:blipFill>
        <p:spPr>
          <a:xfrm>
            <a:off x="6553080" y="5273640"/>
            <a:ext cx="2590920" cy="158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0480"/>
            <a:ext cx="91440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So after he had washed their feet, and had taken his garments, and was set down again, he said unto them, Know ye what I have done to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Ye call me Master and Lord: and ye say well; for so I 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If I then, your Lord and Master, have washed your feet; ye also ought to wash one another's fe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For I have given you an example, that ye should do as I have done to y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Verily, verily, I say unto you, The servant is not greater than his lord; neither he that is sent greater than he that sent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If ye know these things, happy are ye if ye do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5B70-2BF1-4456-B3D2-E558155B1522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265-8A3B-451A-B92D-65441C5B6D2A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E30-E2FD-4A8F-A30D-6F31B06DE4D1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60640" y="4952880"/>
            <a:ext cx="490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t Washing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7414-E96A-43EE-9A9F-C9749A8C02E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01000" cy="176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9CA-6F06-4F21-823C-2CE8A808E948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3AA-B0FF-4D8E-AD78-B49CB6BCDB0F}" type="slidenum">
              <a:t>15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60640" y="4952880"/>
            <a:ext cx="490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t Washing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6A7E-862F-4FD0-8B3B-DAEF38330F1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01000" cy="176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827-2E34-40DF-8417-7C2D52FFB227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13240" y="4062240"/>
            <a:ext cx="3830760" cy="2795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478476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, not all may _______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440" y="1279440"/>
            <a:ext cx="83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One of _____ ordinances established by Je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080" y="1965240"/>
            <a:ext cx="823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 _______ of Christ’s broken body/shed bl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9680" y="2666880"/>
            <a:ext cx="814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 _______ ceremony of what Jesus did for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520" y="3336840"/>
            <a:ext cx="717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Observing it shows _________ to Chr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5360" y="403848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We believe in _____ Commu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3760" y="45720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rd’s Su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0240" y="1295280"/>
            <a:ext cx="10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440" y="1981080"/>
            <a:ext cx="168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i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65104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ymbol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9400" y="3352680"/>
            <a:ext cx="193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e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6560" y="4022640"/>
            <a:ext cx="111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200" y="4708440"/>
            <a:ext cx="145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ta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CED1-BB8D-4071-9725-59506B453A1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BBB-06EE-4814-97A3-DE251B408E69}" type="slidenum">
              <a:t>3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8120" y="3787920"/>
            <a:ext cx="6141960" cy="307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720"/>
            <a:ext cx="91440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 Cor 11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Wherefore whosoever shall eat this bread, and drink this cup of the Lord, unworthily, shall be guilty of the body and blood of the Lo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But let a man examine himself, and so let him eat of that bread, and drink of that c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For he that eateth and drinketh unworthily, eateth and drinketh damnation to himself, not discerning the Lord's bo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D3B6-7F92-4D5B-9F9A-E118EC436AEF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165-2D54-4DD3-BAC8-AEDE16C2B402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7920" y="478476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lf ___________ (1 Cor 11:25-2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240" y="1279440"/>
            <a:ext cx="41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ose who are 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965240"/>
            <a:ext cx="524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ose who _____ to parta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7520" y="2666880"/>
            <a:ext cx="621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ose who are ________ (worth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54400" y="3336840"/>
            <a:ext cx="53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onfessed ____ (1 John 1: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3680" y="4038480"/>
            <a:ext cx="689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Restored ___________ (Matt 5:23-2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3040" y="45720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may part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45320" y="1295280"/>
            <a:ext cx="11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5680" y="196524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2651040"/>
            <a:ext cx="170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8320" y="32767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7560" y="3962520"/>
            <a:ext cx="232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3880" y="4708440"/>
            <a:ext cx="22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362320" cy="150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720-0ADF-4DCA-867F-C2C62499EBDB}" type="slidenum">
              <a:t>5</a:t>
            </a:fld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577-0AF5-4C8F-95E7-5EF053870923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-7632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 Cor 1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And when he had given thanks, he brake it, and said, Take, eat: this is my body, which is broken for you: this do in remembrance of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88CF-D05A-4D3B-84E5-A7419CE49C4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BD7-45F9-4563-B34E-D8573CEABE43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95680" y="201600"/>
            <a:ext cx="449604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 Cor 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After the same manner also he took the cup, when he had supped, saying, This cup is the new testament in my blood: this do ye, as oft as ye drink it, in remembrance of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For as often as ye eat this bread, and drink this cup, ye do shew the Lord's death till he c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00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A85-7996-4F05-AFC4-E939D2D0BA14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44720" y="457200"/>
            <a:ext cx="36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et W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13160" y="4253040"/>
            <a:ext cx="4830840" cy="2604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D2A9-6B55-4680-9661-62F6EC58567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78476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 _______ of servanthood (John 13:1-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5000" y="1279440"/>
            <a:ext cx="76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ollows Christ’s ________ (John 13:14-1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440" y="1965240"/>
            <a:ext cx="791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Obeys Christ’s __________ (John 13:14-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0040" y="2666880"/>
            <a:ext cx="668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racticed by the ______ (1 Tim 5: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7160" y="3336840"/>
            <a:ext cx="695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__________ us with Christ (John 13: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240" y="403848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________ us of what Jesus d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08480" y="1219320"/>
            <a:ext cx="16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73680" y="1981080"/>
            <a:ext cx="21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3760" y="2590920"/>
            <a:ext cx="117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880" y="3352680"/>
            <a:ext cx="202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oci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160" y="4022640"/>
            <a:ext cx="168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i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7480" y="4708440"/>
            <a:ext cx="138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576-EB5A-4682-BA94-E3136A2CE5A5}" type="slidenum">
              <a:t>9</a:t>
            </a:fld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3:29:25Z</dcterms:created>
  <dc:creator>Big Cheese</dc:creator>
  <dc:description/>
  <dc:language>en-US</dc:language>
  <cp:lastModifiedBy>750</cp:lastModifiedBy>
  <dcterms:modified xsi:type="dcterms:W3CDTF">2003-04-16T20:26:37Z</dcterms:modified>
  <cp:revision>16</cp:revision>
  <dc:subject/>
  <dc:title>Slide 1</dc:title>
</cp:coreProperties>
</file>