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294-C44A-430F-B0C6-DA8BF2EC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3720" y="22680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91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030920"/>
            <a:ext cx="891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646-D8E8-4733-8BA3-3A877860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720" y="22680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35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1400" y="1523520"/>
            <a:ext cx="435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030920"/>
            <a:ext cx="435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1400" y="4030920"/>
            <a:ext cx="435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F7F-9C0E-499E-B953-63D60DC9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3720" y="22680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287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7280" y="1523520"/>
            <a:ext cx="287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2280" y="1523520"/>
            <a:ext cx="287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030920"/>
            <a:ext cx="287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7280" y="4030920"/>
            <a:ext cx="287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2280" y="4030920"/>
            <a:ext cx="287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8CD-132C-4A5D-AD13-92B47E73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3720" y="22680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523520"/>
            <a:ext cx="891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A2B-1651-477B-AAAF-44F89F15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720" y="22680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917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D1D-D531-4C24-AAD3-C20049F9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720" y="22680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35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1400" y="1523520"/>
            <a:ext cx="435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8673-0695-4DB7-B0AA-A1CCB57E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720" y="22680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84E-E2CA-47CB-AE5E-AAC4A4DA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3720" y="226800"/>
            <a:ext cx="876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597-0D96-450A-A4EC-395D4F1E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720" y="22680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35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1400" y="1523520"/>
            <a:ext cx="435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030920"/>
            <a:ext cx="435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1EC-B4B5-4798-888B-728251AA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3720" y="22680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35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1400" y="1523520"/>
            <a:ext cx="435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1400" y="4030920"/>
            <a:ext cx="435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1A6-BDF2-45AE-88B8-82EE8438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3720" y="22680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35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1400" y="1523520"/>
            <a:ext cx="435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030920"/>
            <a:ext cx="8917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489-E984-48B8-901D-A57DC1E1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3720" y="22680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23520"/>
            <a:ext cx="8917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1" marL="425160" indent="-42516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2" marL="425160" indent="-42516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3" marL="425160" indent="-42516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4" marL="425160" indent="-42516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5" marL="425160" indent="-425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6" marL="425160" indent="-4251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7039-CAD3-4772-8B43-10254AAAE7FE}" type="datetime">
              <a:rPr b="0" i="1" lang="en-US" sz="1400" spc="-1" strike="noStrike">
                <a:solidFill>
                  <a:srgbClr val="00cc9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cc99"/>
                </a:solidFill>
                <a:latin typeface="Times New Roman"/>
              </a:rPr>
              <a:t>&lt;footer&gt;</a:t>
            </a: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CCLI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0070-97E2-4449-B85B-BA8404EBF03F}" type="slidenum">
              <a:rPr b="0" i="1" lang="en-US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9608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C460-B509-424B-9806-B7B210E2EE40}" type="slidenum">
              <a:rPr b="0" i="1" lang="en-US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09A-08DF-4BFD-873D-838E8C19D99F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204C3-70F2-4266-BCB9-B90BA144E32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9608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4F2B-ECB9-4DAE-B3D4-8D056B9E455C}" type="slidenum">
              <a:rPr b="0" i="1" lang="en-US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4CA6-0E5E-46EF-8C84-2B765769985A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5D8F2-33A9-4EC3-969E-2597944E6E8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9608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70F9-6E40-4D3B-A574-C7AA47E40371}" type="slidenum">
              <a:rPr b="0" i="1" lang="en-US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D06-8AB4-4422-8060-F47872C1114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D341A-BE96-467E-A9F2-7197ED2BEB7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9608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AC43-55BB-4A17-BAFC-F737514934B8}" type="slidenum">
              <a:rPr b="0" i="1" lang="en-US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1A7-6CD9-4E70-852E-BD6B00B89429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1D73C-B1DE-420A-BF59-C864ADD2357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9608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4D24-6CDF-4CC0-A7C7-F6CBE08DF77B}" type="slidenum">
              <a:rPr b="0" i="1" lang="en-US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886-5CE4-4B40-A2CB-63A881131C43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21845-F72E-472C-8548-EB97192CC15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9608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A67B-BFD7-4B24-ADA4-ABF07D975AD7}" type="slidenum">
              <a:rPr b="0" i="1" lang="en-US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7C7-D5B3-4BB4-A787-F1E73EE98AD2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86F76-1F16-4AF5-ABB7-AC5F65CB952E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6:27:37Z</dcterms:created>
  <dc:creator/>
  <dc:description/>
  <dc:language>en-US</dc:language>
  <cp:lastModifiedBy>Preferred Customer</cp:lastModifiedBy>
  <dcterms:modified xsi:type="dcterms:W3CDTF">2003-12-22T01:50:04Z</dcterms:modified>
  <cp:revision>162</cp:revision>
  <dc:subject/>
  <dc:title>Slide 1</dc:title>
</cp:coreProperties>
</file>