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9.png" ContentType="image/pn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5944-2EAB-40A8-A5DB-C0282DF46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C48E-2805-45B8-BAF5-09107BAC9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6EA7-C809-4EA4-9C4F-A9590C030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F19D-04C7-4EA0-AE6C-93B459DEF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D2D7-F8C9-437B-BD13-8F8A66728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80D0-DD15-4537-B97F-F63A7A901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DA9D-D55A-4E2A-B8C3-E35946CDC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07F0-4D07-4F79-97CB-CC2BAEA02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6A69-18F4-4871-B1F2-ED10C173C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2D4E-5D50-4DC3-A156-973A5F157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24CD-76EF-44A8-ABEF-6DE305B2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222E-C1A9-4430-8F94-626C6C819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76E81-D6EC-467C-9CD6-96BD950EB6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600" y="12600"/>
            <a:ext cx="9120240" cy="6832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2600" y="12600"/>
            <a:ext cx="9120240" cy="6832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2600" y="30240"/>
            <a:ext cx="9120240" cy="6797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2600" y="47520"/>
            <a:ext cx="9120240" cy="676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2600" y="12600"/>
            <a:ext cx="9120240" cy="6832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8680" y="4680"/>
            <a:ext cx="9028080" cy="6848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2600" y="-12600"/>
            <a:ext cx="9120240" cy="6883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2600" y="-4680"/>
            <a:ext cx="9120240" cy="6865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6600" y="12600"/>
            <a:ext cx="9012240" cy="6832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600" y="-4680"/>
            <a:ext cx="9120240" cy="6865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8680" y="4680"/>
            <a:ext cx="9028080" cy="6848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2600" y="4680"/>
            <a:ext cx="9120240" cy="6848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5440" y="3240"/>
            <a:ext cx="9034560" cy="6851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0T13:57:22Z</dcterms:created>
  <dc:creator/>
  <dc:description/>
  <dc:language>en-US</dc:language>
  <cp:lastModifiedBy>Preferred Customer</cp:lastModifiedBy>
  <dcterms:modified xsi:type="dcterms:W3CDTF">2003-12-22T01:52:20Z</dcterms:modified>
  <cp:revision>4</cp:revision>
  <dc:subject/>
  <dc:title>Slide 1</dc:title>
</cp:coreProperties>
</file>