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2BE8-2871-491D-9D82-B8C5C7D6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36AB-D7EF-43C4-A2CF-4082A75A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F18-351C-4FCF-A5D6-1CAD429D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375-7710-4825-B7BC-D3E1D7E1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18F-E918-4EC7-A98E-DE59E264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01C4-4769-4EBB-B4CA-9484FA84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4C1-16C9-4EEB-9DDB-16EA98AD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AD5-84AA-4930-A98C-A48FEDA4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041D-1C3B-4846-BFF1-88A09578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F9B-9D6C-4050-A207-E5D2D02C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7CA3-556C-4B61-B96B-A6A7DAC9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BFD-97A8-43EC-9492-EDC0FD96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BA8A-AEC9-4DAE-802D-FA41BD6B7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600" y="-4680"/>
            <a:ext cx="9120240" cy="686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600" y="-4680"/>
            <a:ext cx="9120240" cy="686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600" y="-4680"/>
            <a:ext cx="9120240" cy="686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0840" y="17640"/>
            <a:ext cx="8843760" cy="6824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0840" y="17640"/>
            <a:ext cx="8843760" cy="6824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0T13:55:10Z</dcterms:created>
  <dc:creator/>
  <dc:description/>
  <dc:language>en-US</dc:language>
  <cp:lastModifiedBy>Preferred Customer</cp:lastModifiedBy>
  <dcterms:modified xsi:type="dcterms:W3CDTF">2003-12-22T01:53:10Z</dcterms:modified>
  <cp:revision>2</cp:revision>
  <dc:subject/>
  <dc:title>Slide 1</dc:title>
</cp:coreProperties>
</file>