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9722-8B6E-4C4A-9D72-440CD3A3B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1F24-0D10-49F5-BC7D-D39DEE53C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07CB-18B1-4227-B21F-379C0C41E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F447-E446-4CDC-A20D-28029C4E6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1E6C-4390-4AFE-961E-05E5EA1A1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78F0-91D5-4B15-801B-E6C03D039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D24C-642C-4D63-89C6-8AE4AF1C1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1646-02DA-43F8-A52E-C84F069E5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C0DA-0A65-4560-A885-0AAE89573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74B2-5E4F-4BF2-853F-9EE80BCE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31D6-00E9-42AD-8207-0BF71B44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9F82-F355-4DC3-91AA-11E20FB88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42209-2E15-4AC0-855A-035B3498D6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5373" t="0" r="5816" b="5548"/>
          <a:stretch/>
        </p:blipFill>
        <p:spPr>
          <a:xfrm>
            <a:off x="3352680" y="990720"/>
            <a:ext cx="2859120" cy="4419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828800" y="0"/>
            <a:ext cx="562932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09680" y="0"/>
            <a:ext cx="502308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362320" y="0"/>
            <a:ext cx="45846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276720" y="838080"/>
            <a:ext cx="3295440" cy="5004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124080" y="838080"/>
            <a:ext cx="3403800" cy="5029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971800" y="762120"/>
            <a:ext cx="3413160" cy="5105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048120" y="838080"/>
            <a:ext cx="3449520" cy="5181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7924680" cy="5048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rcRect l="3866" t="5392" r="5312" b="2921"/>
          <a:stretch/>
        </p:blipFill>
        <p:spPr>
          <a:xfrm>
            <a:off x="1889280" y="304920"/>
            <a:ext cx="5829120" cy="6324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rcRect l="0" t="1687" r="3593" b="0"/>
          <a:stretch/>
        </p:blipFill>
        <p:spPr>
          <a:xfrm>
            <a:off x="2971800" y="1219320"/>
            <a:ext cx="2819520" cy="4419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0" t="0" r="0" b="1859"/>
          <a:stretch/>
        </p:blipFill>
        <p:spPr>
          <a:xfrm>
            <a:off x="3200400" y="1219320"/>
            <a:ext cx="2979720" cy="4038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6858000" cy="5221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362320" y="685800"/>
            <a:ext cx="4394160" cy="5562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67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981080" y="0"/>
            <a:ext cx="542448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981080" y="0"/>
            <a:ext cx="532296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295280" y="0"/>
            <a:ext cx="64152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1T17:13:46Z</dcterms:created>
  <dc:creator/>
  <dc:description/>
  <dc:language>en-US</dc:language>
  <cp:lastModifiedBy>Preferred Customer</cp:lastModifiedBy>
  <dcterms:modified xsi:type="dcterms:W3CDTF">2003-12-22T01:53:28Z</dcterms:modified>
  <cp:revision>2</cp:revision>
  <dc:subject/>
  <dc:title>Slide 1</dc:title>
</cp:coreProperties>
</file>