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0163-EE88-46F3-8220-F06F26F05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88AE-EB10-4EA5-AE1C-F0573D4F2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B2F3-6BE6-4C41-AA14-9B5089FD5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ADC6-5052-4A09-A3CA-116542474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4A82-C094-4599-9C0C-5058A3C39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5FD0-46A8-4FA3-9784-4927719EF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24BE-20DB-4334-8DD6-55AF79159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4EE4-03BB-42A9-A17D-D4BE068B2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9E38-904E-4814-8AFA-76F368821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F157-ED46-4A57-9981-E35149B1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DE25-876B-4FFC-B5FA-C898F451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F90C-05DA-4EA4-9559-31F61735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D4AFD-5162-4C1C-96A1-C16EA134EF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31840" y="9360"/>
            <a:ext cx="8682120" cy="6840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-6480" y="82440"/>
            <a:ext cx="9155160" cy="6694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600" y="12600"/>
            <a:ext cx="9120240" cy="6832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600" y="12600"/>
            <a:ext cx="9120240" cy="6832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600" y="12600"/>
            <a:ext cx="9120240" cy="6832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600" y="12600"/>
            <a:ext cx="9120240" cy="6832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0840" y="17640"/>
            <a:ext cx="8843760" cy="6824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600" y="-4680"/>
            <a:ext cx="9120240" cy="6865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600" y="-4680"/>
            <a:ext cx="9120240" cy="6865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600" y="12600"/>
            <a:ext cx="9120240" cy="6832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0T13:52:46Z</dcterms:created>
  <dc:creator/>
  <dc:description/>
  <dc:language>en-US</dc:language>
  <cp:lastModifiedBy>Preferred Customer</cp:lastModifiedBy>
  <dcterms:modified xsi:type="dcterms:W3CDTF">2003-12-22T01:54:16Z</dcterms:modified>
  <cp:revision>2</cp:revision>
  <dc:subject/>
  <dc:title>Slide 1</dc:title>
</cp:coreProperties>
</file>