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F82-EC54-4E92-80C1-A1388447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0C9-9B9C-48E6-B751-A893415B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8EC-D75C-476F-BFED-9B5A6A78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F25-870F-481C-82B5-D8AC4D55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170-18DF-43BB-A2C4-DE728B52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DE0-E007-476B-8616-0BBAB7F6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8D7-1253-49C6-AD83-6AB476FC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5BD-B340-4833-9EDD-C1A528D9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7E1-04D9-485B-94AB-EFF772F5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430-9296-4208-916A-9E5C2B5A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CE4-74FD-46F8-9F93-3CD782D8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8CC-32D3-4153-BE33-06062155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6EF8-474B-4B45-8C13-3CC47AD95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80" y="4680"/>
            <a:ext cx="9028080" cy="684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9080" y="1440"/>
            <a:ext cx="8565840" cy="6856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3:38:47Z</dcterms:created>
  <dc:creator/>
  <dc:description/>
  <dc:language>en-US</dc:language>
  <cp:lastModifiedBy>Preferred Customer</cp:lastModifiedBy>
  <dcterms:modified xsi:type="dcterms:W3CDTF">2003-12-22T01:54:30Z</dcterms:modified>
  <cp:revision>3</cp:revision>
  <dc:subject/>
  <dc:title>Slide 1</dc:title>
</cp:coreProperties>
</file>