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2A8C-9151-453D-8E67-1A740A252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82E1-8393-4A0B-9CCD-4B59286F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5A26-2C06-4B6A-B2A0-5B74F907C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663B-4BFA-414E-96EB-A817F2813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353D-A0A0-4877-A345-A7EC043F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9380-5F1F-4CE9-A216-41D1815E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9629-513B-4D08-A420-E6F9719C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A4CF-7E1C-46FD-8474-B7A90073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0E71-C340-46DE-A2E2-272BCDF8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9328-54AA-4D59-9D79-F5A2DA53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E20F-12B4-4C96-A078-C9C55125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B92A-7A3E-4CF2-8B1F-A2D3BE75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B531-78AA-44F6-9158-1BE551775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0840" y="9360"/>
            <a:ext cx="8843760" cy="6839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600" y="12600"/>
            <a:ext cx="9120240" cy="683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600" y="12600"/>
            <a:ext cx="9120240" cy="683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600" y="12600"/>
            <a:ext cx="9120240" cy="683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600" y="12600"/>
            <a:ext cx="9120240" cy="683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600" y="12600"/>
            <a:ext cx="9120240" cy="683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600" y="12600"/>
            <a:ext cx="9120240" cy="683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600" y="12600"/>
            <a:ext cx="9120240" cy="683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600" y="12600"/>
            <a:ext cx="9120240" cy="683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600" y="12600"/>
            <a:ext cx="9120240" cy="683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600" y="30240"/>
            <a:ext cx="9120240" cy="6797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600" y="12600"/>
            <a:ext cx="9120240" cy="683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600" y="12600"/>
            <a:ext cx="9120240" cy="683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600" y="12600"/>
            <a:ext cx="9120240" cy="683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0T13:50:07Z</dcterms:created>
  <dc:creator/>
  <dc:description/>
  <dc:language>en-US</dc:language>
  <cp:lastModifiedBy>Preferred Customer</cp:lastModifiedBy>
  <dcterms:modified xsi:type="dcterms:W3CDTF">2003-12-22T01:56:28Z</dcterms:modified>
  <cp:revision>2</cp:revision>
  <dc:subject/>
  <dc:title>Slide 1</dc:title>
</cp:coreProperties>
</file>